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E57-799B-4C72-9041-D4195019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F0E-AE1C-4C94-A99D-539C4D12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211-DDDD-44F6-9307-E9C47D5F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A5F4-86DD-4A86-845A-207FA95C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2AB-2FDC-4B92-A41D-F7FD4ECF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A56-6413-48AA-8039-CAC5E078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FD4-B4F4-4740-86CA-9BE196F1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075-6EF3-4F70-8DBB-1F1F22B2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11F-BB0E-4B16-B67A-4E9B477F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7B2-7B9C-4B9E-B49B-E589F91F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1C5-0414-4706-B736-45237FC3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84B-3F14-4184-AF22-7095D93F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4B6E-37C3-41A2-96D3-B744144B3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Биоэкологическая характеристика класса рыб; их многообразие в зависимости от биотипов (ручей, болото, бассейн тропических рек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ерасимов И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Отряд кефалеобраз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емейство атериниды (Радужная рыбка,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Бедо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Отряд сростночелюст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одотряд фах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66"/>
                </a:solidFill>
                <a:latin typeface="Arial"/>
              </a:rPr>
              <a:t>Семейство четырехзубы (Куткутия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2360" y="2781360"/>
            <a:ext cx="55245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8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ыбы — наиболее древняя группа позвоночных животных. Первые рыбы появились на Земле свыше 300 млн. лет назад, в конце силурийского периода. Они населяют большинство водоемов земного шара, обитая в самых различных условиях. Длительное эволюционное развитие и приспособление к жизни в очень несходных условиях привело к чрезвычайному многообразию форм ры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Близкие друг к другу по родству, а вместе с тем и по сходству виды объединяются в систематическую единицу — род. Научное название вида обозначается двумя словами, первое из них указывает род, второе — собственно видовое. Кроме того, пишется фамилия автора, впервые описавшего данный вид, и год, когда он был описан. В некоторых случаях, когда вид разделяется на хорошо различимые группы — подвиды, после видового названия пишется наименование подв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Роды объединяются в подсемейства, подсемейства — в семейства, семейства — в надсемейства, далее — в подотряды, отряды, подклассы и, наконец, в класс ры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cc"/>
                </a:solidFill>
                <a:latin typeface="Arial"/>
              </a:rPr>
              <a:t>Отряд сельдеобразные</a:t>
            </a:r>
            <a:r>
              <a:rPr b="0" lang="en-US" sz="4400" spc="-1" strike="noStrike">
                <a:solidFill>
                  <a:srgbClr val="99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Подотряд рыбы-бабочки (Пантод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Подотряд нотоптерусовидные </a:t>
            </a:r>
            <a:r>
              <a:rPr b="0" i="1" lang="ru-RU" sz="3200" spc="-1" strike="noStrike">
                <a:solidFill>
                  <a:srgbClr val="99ffcc"/>
                </a:solidFill>
                <a:latin typeface="Arial"/>
              </a:rPr>
              <a:t>Семейство нотоптерусы</a:t>
            </a: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(Рыба-нож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4067280" cy="3082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3816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Отряд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мормирообразные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одотряд мормиридовидные </a:t>
            </a:r>
            <a:r>
              <a:rPr b="0" i="1" lang="ru-RU" sz="3200" spc="-1" strike="noStrike">
                <a:solidFill>
                  <a:srgbClr val="0033cc"/>
                </a:solidFill>
                <a:latin typeface="Arial"/>
              </a:rPr>
              <a:t>Семейство Мормириды (Рыба-сл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19280" y="2708280"/>
            <a:ext cx="52322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00"/>
                </a:solidFill>
                <a:latin typeface="Arial"/>
              </a:rPr>
              <a:t>Отряд карпообразные</a:t>
            </a:r>
            <a:r>
              <a:rPr b="0" lang="en-US" sz="4400" spc="-1" strike="noStrike">
                <a:solidFill>
                  <a:srgbClr val="cccc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Подотряд харацино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Семейство харациниды (Тетра фон рио, Грими,</a:t>
            </a: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Серпа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Семейство аностомиды (Аностомус обыкновенный, Хилоду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Семейство гастеропелециды (Карнегиелл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Семейство цитариниды (Наннэтиопс, Неолебиа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Подотряд карповид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Семейство карповые (Пунтиус (барбус) черный,</a:t>
            </a: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Пунтиус (барбус) зеленый,</a:t>
            </a: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Данио рери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cc00"/>
                </a:solidFill>
                <a:latin typeface="Arial"/>
              </a:rPr>
              <a:t>Семейство гиринохайлиды (Гиринохайлу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Подотряд сомови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Семейство калихтииды (Калихт, Дианема, Сомик крапча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Семейство лорикарииды (Присоск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Семейство прозрачные сомы (Стеклянный сомик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64816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195640" y="4991040"/>
            <a:ext cx="28810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Отряд карпозубые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одотряд карпозубови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Надсемейство икромечущие карпозубые (Эпиплатис Шапера, Панхакс, Афиосемион южн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Надсемейство живородящие карпозуб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Семейство пецилиды (Белонесокс, Гамбузия, Формо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59280" y="4797360"/>
            <a:ext cx="4103640" cy="1874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258920" y="4780080"/>
            <a:ext cx="28083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cc"/>
                </a:solidFill>
                <a:latin typeface="Arial"/>
              </a:rPr>
              <a:t>Отряд сарганообразные</a:t>
            </a:r>
            <a:r>
              <a:rPr b="0" lang="ru-RU" sz="4400" spc="-1" strike="noStrike">
                <a:solidFill>
                  <a:srgbClr val="99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ffcc"/>
                </a:solidFill>
                <a:latin typeface="Arial"/>
              </a:rPr>
              <a:t>Семейство полурылы (Дермогенис)</a:t>
            </a: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835280" y="2276640"/>
            <a:ext cx="55450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66"/>
                </a:solidFill>
                <a:latin typeface="Arial"/>
              </a:rPr>
              <a:t>Отряд окунеобразные</a:t>
            </a: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5410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550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Подотряд окуневид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Семейство ушастые окуни (Дисковидный окунь, Бриллиантовый окун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Семейство центропомиды  (Стеклянный окун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Семейство цихлиды  (Акара голубовато-пятнистая, Наннакара аномала, Мезонаут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Семейство нандовые (Рыба-хамелеон, Рыба-обрубо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Семейство анабантиды (Рыба-ползун, Петушок, Колиза полосата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550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Подотряд лабиринтов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550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Подотряд быч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Семейство элеотрисы</a:t>
            </a:r>
            <a:r>
              <a:rPr b="0" lang="en-US" sz="2200" spc="-1" strike="noStrike">
                <a:solidFill>
                  <a:srgbClr val="66ff66"/>
                </a:solidFill>
                <a:latin typeface="Arial"/>
              </a:rPr>
              <a:t> (Ротан</a:t>
            </a: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Семейство бычки (Брахигобиус ксантозон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66"/>
                </a:solidFill>
                <a:latin typeface="Arial"/>
              </a:rPr>
              <a:t>Семейство прыгуны (Прыгу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2737080" cy="188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940360" y="1341360"/>
            <a:ext cx="259236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7:10:22Z</dcterms:created>
  <dc:creator>User</dc:creator>
  <dc:description/>
  <dc:language>en-US</dc:language>
  <cp:lastModifiedBy>User</cp:lastModifiedBy>
  <dcterms:modified xsi:type="dcterms:W3CDTF">2010-05-21T18:54:19Z</dcterms:modified>
  <cp:revision>6</cp:revision>
  <dc:subject/>
  <dc:title>Биоэкологическая характеристика класса рыб; их многообразие в зависимости от биотипов (ручей, болото, бассейн тропических рек). </dc:title>
</cp:coreProperties>
</file>